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05E2-1F03-40AD-98C3-9EC74885B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09ED-772F-489A-9256-B81C58E4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4352-1C30-4E03-99E5-AD187F483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2FA9-39D8-4C79-B507-310FD18ED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E6F8EE-75BC-4C49-AFB0-B1854BCE3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8E01CF-D35E-4558-985E-92CB9EDE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C6D7D7-CC52-4605-A60C-D7BA3AA3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847300-49FE-4013-9DAE-9B871D13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D2423C-8409-47AD-9F20-40388351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21FA1-C94F-418D-96C5-B9678D6D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287E1-67B4-48E9-BE5D-62033F92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FA8E-323C-4283-9577-4AC61CEA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83A333-1383-4056-8698-A87B1B4E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EACC50-21C7-48B8-911A-03AF42E0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690156-8803-4C5C-8590-88405C23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BCB461-0D4B-41F3-A46D-8528255C4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14955-9272-4CC4-BFC0-B6AEB4555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FBA1C-F207-4086-A354-907D8A6CE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21F22-C35A-4FED-8888-139634F8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832F9-D626-4402-96C8-832A0AF5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B3448-6B4F-45F9-8F7C-E92019BD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D0C65-08FC-406E-B16B-1CE30FAB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C74A-0CCD-4423-9F73-F0961515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16B2F-B08E-4822-BFC0-0C1EB209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F0B4E-0718-4815-B832-F422CE72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3422C-F19F-4BD1-BC6C-9C03C6B7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49713-CA0E-4A1B-B270-0BC02E80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BD7C2-D67C-45E5-8021-08A03E0C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8D812-B01B-4C81-A179-A1809EA36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8BF4A-5C71-4E72-BE03-0CFA48249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84FBB1-ED21-4CC3-9AC3-21FA20F89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E72174-99E6-4CC2-92D0-BF810793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CBAE3F-11C5-47A0-84A0-3AEA2D00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8E50-71E0-41BA-AE74-F4A93BE0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BD015F-4887-4D95-A7BF-43242716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D772ED-E8F8-4102-B7C2-B942FCEA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C4A4DF-5F98-4B0B-87BB-2AF7CA63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F6F5A7-58DA-489A-8588-93CF7C82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61AA79-B822-4BF2-BF85-B982F393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5C49D1-1AC1-4FC1-8D39-7C206187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6A423A-F19D-401F-BE59-2A74A070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F91EF4-F4FE-4921-902C-81E690019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9BF997-3341-48B8-87B3-0FC9958A3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A0CB84-4368-4BE4-83FE-B3FFC9287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46DA-CC1A-4997-AF41-1B858DA9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EFDF1D-6897-4DD9-B412-B8D20153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E23AF5-34D8-4788-B205-914D7DFF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C4BD58-E634-4E81-A47C-7FFB95A9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4279CC-BD91-4FE4-AB8D-95E5D56C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E1526F-9FEE-4C61-849F-23BC14C2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A35AAC-1EA0-4AEA-B2A1-061EA13D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98A7F4-16A8-4A5E-AA7D-98D7F1DE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DE4565-715F-482F-8F89-9E5CAD01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FE3B81-53DA-4924-9B0C-6611FE2A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5DF7FA-BA6A-4F1D-A3D4-9C15E95A2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96D0-B960-48DB-BD7D-F39ACAE6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A63C80-0145-4B86-BC24-9A33326D7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A7CE36-6E0E-486C-BA3F-3114985D3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B48289-EA11-4647-AB43-1DF8D9E5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3E8EFE-151C-4F0D-A3B6-FD056028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54D9B1-9E3B-4038-83AB-F80A8069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3ECFFF-6EDA-4570-8D5B-E535E138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341580-C788-49D0-BF98-10ADD70E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F63E37-8403-48B8-9D5B-6C70D7CA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485DFF-0D26-4E51-9362-41168AC8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5FF50D-25CF-4E79-921D-F625CC1C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2F62-593C-457A-8121-E1156130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0D4976-3857-4405-902C-2B7F938A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C80647-E897-41E3-BF3B-6FA40E065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56102B-7AAC-4BBE-A1BA-9CC50B1F6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B560-62BD-4142-9B84-7E9A95B5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8D07-74DD-4DAB-BFC6-36B00124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5" marL="1554120" indent="-228600">
              <a:spcBef>
                <a:spcPts val="601"/>
              </a:spcBef>
              <a:buClr>
                <a:srgbClr val="fdf5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6" marL="1554120" indent="-228600">
              <a:spcBef>
                <a:spcPts val="601"/>
              </a:spcBef>
              <a:buClr>
                <a:srgbClr val="fdf5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af1d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1d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af1d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F83A-16DE-417B-A549-1665BB15DC67}" type="slidenum">
              <a:rPr b="0" lang="en-US" sz="1600" spc="-1" strike="noStrike">
                <a:solidFill>
                  <a:srgbClr val="faf1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entury Schoolbook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9f6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9f6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5" marL="1554120" indent="-228600">
              <a:spcBef>
                <a:spcPts val="601"/>
              </a:spcBef>
              <a:buClr>
                <a:srgbClr val="fdf5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6" marL="1554120" indent="-228600">
              <a:spcBef>
                <a:spcPts val="601"/>
              </a:spcBef>
              <a:buClr>
                <a:srgbClr val="fdf5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entury Schoolbook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af1d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1d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af1d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19B2-D1D7-4EAE-BBB9-9B0FFBDCD699}" type="slidenum">
              <a:rPr b="0" lang="en-US" sz="1600" spc="-1" strike="noStrike">
                <a:solidFill>
                  <a:srgbClr val="faf1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5" marL="1554120" indent="-228600">
              <a:spcBef>
                <a:spcPts val="601"/>
              </a:spcBef>
              <a:buClr>
                <a:srgbClr val="fdf5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6" marL="1554120" indent="-228600">
              <a:spcBef>
                <a:spcPts val="601"/>
              </a:spcBef>
              <a:buClr>
                <a:srgbClr val="fdf5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entury Schoolbook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af1d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1d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af1d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1AD7-6E9A-4469-AED5-A10AE904C803}" type="slidenum">
              <a:rPr b="0" lang="en-US" sz="1600" spc="-1" strike="noStrike">
                <a:solidFill>
                  <a:srgbClr val="faf1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9f6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9f6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5" marL="1554120" indent="-228600">
              <a:spcBef>
                <a:spcPts val="601"/>
              </a:spcBef>
              <a:buClr>
                <a:srgbClr val="fdf5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6" marL="1554120" indent="-228600">
              <a:spcBef>
                <a:spcPts val="601"/>
              </a:spcBef>
              <a:buClr>
                <a:srgbClr val="fdf5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entury Schoolbook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af1d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3BE3-03FC-4D44-918D-52CC46B32D30}" type="slidenum">
              <a:rPr b="0" lang="en-US" sz="1600" spc="-1" strike="noStrike">
                <a:solidFill>
                  <a:srgbClr val="faf1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af1d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1d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5" marL="1554120" indent="-228600">
              <a:spcBef>
                <a:spcPts val="601"/>
              </a:spcBef>
              <a:buClr>
                <a:srgbClr val="fdf5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6" marL="1554120" indent="-228600">
              <a:spcBef>
                <a:spcPts val="601"/>
              </a:spcBef>
              <a:buClr>
                <a:srgbClr val="fdf5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entury Schoolbook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af1d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1d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af1d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B60F-55DF-42A8-BBB8-08B7CD242CB2}" type="slidenum">
              <a:rPr b="0" lang="en-US" sz="1600" spc="-1" strike="noStrike">
                <a:solidFill>
                  <a:srgbClr val="faf1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5" marL="1554120" indent="-228600">
              <a:spcBef>
                <a:spcPts val="601"/>
              </a:spcBef>
              <a:buClr>
                <a:srgbClr val="fdf5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6" marL="1554120" indent="-228600">
              <a:spcBef>
                <a:spcPts val="601"/>
              </a:spcBef>
              <a:buClr>
                <a:srgbClr val="fdf5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entury Schoolbook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af1d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1d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af1d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813A-B169-4B05-8ABC-25A549270868}" type="slidenum">
              <a:rPr b="0" lang="en-US" sz="1600" spc="-1" strike="noStrike">
                <a:solidFill>
                  <a:srgbClr val="faf1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af1d4"/>
              </a:solidFill>
              <a:latin typeface="Century Schoolbook"/>
            </a:endParaRPr>
          </a:p>
        </p:txBody>
      </p:sp>
      <p:pic>
        <p:nvPicPr>
          <p:cNvPr id="253" name="Заголовок 1" descr=""/>
          <p:cNvPicPr/>
          <p:nvPr/>
        </p:nvPicPr>
        <p:blipFill>
          <a:blip r:embed="rId2"/>
          <a:stretch/>
        </p:blipFill>
        <p:spPr>
          <a:xfrm>
            <a:off x="450720" y="2206800"/>
            <a:ext cx="8321760" cy="199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entury Schoolbook"/>
              </a:rPr>
              <a:t>   </a:t>
            </a:r>
            <a:r>
              <a:rPr b="0" lang="ru-RU" sz="2600" spc="-1" strike="noStrike">
                <a:solidFill>
                  <a:srgbClr val="7030a0"/>
                </a:solidFill>
                <a:latin typeface="Century Schoolbook"/>
              </a:rPr>
              <a:t>Люди с самого своего рождения не могли объяснить многие явления окружающего их мира. Как только они ни пытались объяснить непонятные им явления! Так появились религии, а вместе с ними – Боги.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entury Schoolbook"/>
              </a:rPr>
              <a:t>И сейчас речь пойдёт об одной древней религии, а вернее об её Богах. </a:t>
            </a:r>
            <a:r>
              <a:rPr b="0" lang="ru-RU" sz="2600" spc="-1" strike="noStrike" u="sng">
                <a:solidFill>
                  <a:srgbClr val="8e58b6"/>
                </a:solidFill>
                <a:uFillTx/>
                <a:latin typeface="Century Schoolbook"/>
                <a:hlinkClick r:id="rId2" action="ppaction://hlinksldjump"/>
              </a:rPr>
              <a:t>Добрых Богах Древнего Египта.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entury Schoolbook"/>
              </a:rPr>
              <a:t>      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pic>
        <p:nvPicPr>
          <p:cNvPr id="255" name="Заголовок 2" descr=""/>
          <p:cNvPicPr/>
          <p:nvPr/>
        </p:nvPicPr>
        <p:blipFill>
          <a:blip r:embed="rId3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57200" y="19810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8e58b6"/>
                </a:solidFill>
                <a:uFillTx/>
                <a:latin typeface="Century Schoolbook"/>
                <a:hlinkClick r:id="rId2" action="ppaction://hlinksldjump"/>
              </a:rPr>
              <a:t>Амон Ра – Бог Солнца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entury Schoolbook"/>
              </a:rPr>
              <a:t>Гор – Бог Неба и Света, Бог-фараон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entury Schoolbook"/>
              </a:rPr>
              <a:t>Осирис – Бог Загробного Мира и Судья умерших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entury Schoolbook"/>
              </a:rPr>
              <a:t>Анубис – Бог-покровитель умерших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entury Schoolbook"/>
              </a:rPr>
              <a:t>Себек – Бог Нила, Воды и Плодородия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pic>
        <p:nvPicPr>
          <p:cNvPr id="257" name="Заголовок 2" descr=""/>
          <p:cNvPicPr/>
          <p:nvPr/>
        </p:nvPicPr>
        <p:blipFill>
          <a:blip r:embed="rId3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58" name="Управляющая кнопка: в начало 4">
            <a:hlinkClick r:id="" action="ppaction://hlinkshowjump?jump=firstslide"/>
          </p:cNvPr>
          <p:cNvSpPr/>
          <p:nvPr/>
        </p:nvSpPr>
        <p:spPr>
          <a:xfrm>
            <a:off x="7620120" y="5867280"/>
            <a:ext cx="533160" cy="38124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199" h="21600">
                <a:moveTo>
                  <a:pt x="0" y="0"/>
                </a:moveTo>
                <a:lnTo>
                  <a:pt x="30199" y="0"/>
                </a:lnTo>
                <a:lnTo>
                  <a:pt x="30199" y="21600"/>
                </a:lnTo>
                <a:lnTo>
                  <a:pt x="0" y="21600"/>
                </a:lnTo>
                <a:close/>
              </a:path>
              <a:path fill="lightenLess" w="30199" h="21600">
                <a:moveTo>
                  <a:pt x="0" y="0"/>
                </a:moveTo>
                <a:lnTo>
                  <a:pt x="30199" y="0"/>
                </a:lnTo>
                <a:lnTo>
                  <a:pt x="28799" y="1400"/>
                </a:lnTo>
                <a:lnTo>
                  <a:pt x="1400" y="1400"/>
                </a:lnTo>
                <a:close/>
              </a:path>
              <a:path fill="darken" w="30199" h="21600">
                <a:moveTo>
                  <a:pt x="30199" y="0"/>
                </a:moveTo>
                <a:lnTo>
                  <a:pt x="30199" y="21600"/>
                </a:lnTo>
                <a:lnTo>
                  <a:pt x="28799" y="20200"/>
                </a:lnTo>
                <a:lnTo>
                  <a:pt x="28799" y="1400"/>
                </a:lnTo>
                <a:close/>
              </a:path>
              <a:path fill="darkenLess" w="30199" h="21600">
                <a:moveTo>
                  <a:pt x="30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99" y="20200"/>
                </a:lnTo>
                <a:close/>
              </a:path>
              <a:path fill="lighten" w="30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99" h="21600">
                <a:moveTo>
                  <a:pt x="11601" y="10800"/>
                </a:moveTo>
                <a:lnTo>
                  <a:pt x="22106" y="3794"/>
                </a:lnTo>
                <a:lnTo>
                  <a:pt x="22106" y="17806"/>
                </a:lnTo>
                <a:close/>
              </a:path>
              <a:path fill="darken" w="30199" h="21600">
                <a:moveTo>
                  <a:pt x="8093" y="3794"/>
                </a:moveTo>
                <a:lnTo>
                  <a:pt x="9756" y="3794"/>
                </a:lnTo>
                <a:lnTo>
                  <a:pt x="9756" y="17806"/>
                </a:lnTo>
                <a:lnTo>
                  <a:pt x="8093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I:\Боги Древнего Египта\Боги\amon.jpg"/>
          <p:cNvPicPr/>
          <p:nvPr/>
        </p:nvPicPr>
        <p:blipFill>
          <a:blip r:embed="rId2"/>
          <a:stretch/>
        </p:blipFill>
        <p:spPr>
          <a:xfrm>
            <a:off x="6934320" y="1371600"/>
            <a:ext cx="1904760" cy="51814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6324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entury Schoolbook"/>
              </a:rPr>
              <a:t>   </a:t>
            </a:r>
            <a:r>
              <a:rPr b="0" lang="ru-RU" sz="2000" spc="-1" strike="noStrike">
                <a:solidFill>
                  <a:srgbClr val="7030a0"/>
                </a:solidFill>
                <a:latin typeface="Century Schoolbook"/>
              </a:rPr>
              <a:t>Бог - покровитель города Фивы, бог воздуха и урожая, творец мира; изображался в виде человека (иногда с головой барана) со скипетром и в короне, с двумя высокими перьями и солнечным диском. Верховный Бог Древнего Египта.</a:t>
            </a:r>
            <a:endParaRPr b="0" lang="en-US" sz="2000" spc="-1" strike="noStrike">
              <a:solidFill>
                <a:srgbClr val="fdf59c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entury Schoolbook"/>
              </a:rPr>
              <a:t>   </a:t>
            </a:r>
            <a:r>
              <a:rPr b="0" lang="ru-RU" sz="2000" spc="-1" strike="noStrike">
                <a:solidFill>
                  <a:srgbClr val="7030a0"/>
                </a:solidFill>
                <a:latin typeface="Century Schoolbook"/>
              </a:rPr>
              <a:t>Являлся Богом Солнца, Богом Света. Каждый день он подымался по небу на своей лодке, освещая всю землю, а вечером он опускался в подземный мир, где вел борьбу с силами тьмы. Он всегда побеждал и вновь каждое утро подымался на небесный свод. Он боролся с силами Хаоса. Символом его неизменного возрождения являлся знак Анх - это крест, у которого вместо верхней палочки находиться круг. В средневековой алхимии Анх являлся символом бессмертия. </a:t>
            </a:r>
            <a:endParaRPr b="0" lang="en-US" sz="2000" spc="-1" strike="noStrike">
              <a:solidFill>
                <a:srgbClr val="fdf59c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df59c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df59c"/>
              </a:solidFill>
              <a:latin typeface="Century Schoolbook"/>
            </a:endParaRPr>
          </a:p>
        </p:txBody>
      </p:sp>
      <p:pic>
        <p:nvPicPr>
          <p:cNvPr id="261" name="Заголовок 2" descr=""/>
          <p:cNvPicPr/>
          <p:nvPr/>
        </p:nvPicPr>
        <p:blipFill>
          <a:blip r:embed="rId3"/>
          <a:stretch/>
        </p:blipFill>
        <p:spPr>
          <a:xfrm>
            <a:off x="450720" y="225360"/>
            <a:ext cx="8321760" cy="1609920"/>
          </a:xfrm>
          <a:prstGeom prst="rect">
            <a:avLst/>
          </a:prstGeom>
          <a:ln w="0">
            <a:noFill/>
          </a:ln>
        </p:spPr>
      </p:pic>
      <p:sp>
        <p:nvSpPr>
          <p:cNvPr id="262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8534520" y="64008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Заголовок 1" descr=""/>
          <p:cNvPicPr/>
          <p:nvPr/>
        </p:nvPicPr>
        <p:blipFill>
          <a:blip r:embed="rId2"/>
          <a:stretch/>
        </p:blipFill>
        <p:spPr>
          <a:xfrm>
            <a:off x="291960" y="285840"/>
            <a:ext cx="8566200" cy="1396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456840" y="1295280"/>
            <a:ext cx="5334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entury Schoolbook"/>
              </a:rPr>
              <a:t>Бог Неба и Света, покровитель фараонов, которые считались его земным воплощением; изображался как человек с головой сокола в короне. </a:t>
            </a:r>
            <a:endParaRPr b="0" lang="en-US" sz="20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df59c"/>
                </a:solidFill>
                <a:latin typeface="Century Schoolbook"/>
              </a:rPr>
              <a:t> </a:t>
            </a:r>
            <a:r>
              <a:rPr b="0" lang="ru-RU" sz="2000" spc="-1" strike="noStrike">
                <a:solidFill>
                  <a:srgbClr val="7030a0"/>
                </a:solidFill>
                <a:latin typeface="Century Schoolbook"/>
              </a:rPr>
              <a:t>Из всех ипостасей Гора наиболее значимыми являются Гор — сын Исиды и Осириса — одно из главных действующих лиц в событиях, связанных со смертью и воскресением Осириса, - он побеждает убийцу Осириса Сета и возвращает Осириса к жизни. Гор становится преемником власти Осириса над Египтом, покровителем и защитником фараонов. После смерти фараон отождествлялся с Осирисом, а новый — с Гором. Имя Гора входит в пятичленный титул фараона.</a:t>
            </a:r>
            <a:endParaRPr b="0" lang="en-US" sz="20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df59c"/>
              </a:solidFill>
              <a:latin typeface="Century Schoolbook"/>
            </a:endParaRPr>
          </a:p>
        </p:txBody>
      </p:sp>
      <p:pic>
        <p:nvPicPr>
          <p:cNvPr id="265" name="Picture 2" descr="I:\Боги Древнего Египта\Боги\0.jpeg"/>
          <p:cNvPicPr/>
          <p:nvPr/>
        </p:nvPicPr>
        <p:blipFill>
          <a:blip r:embed="rId3"/>
          <a:stretch/>
        </p:blipFill>
        <p:spPr>
          <a:xfrm>
            <a:off x="5867280" y="1219320"/>
            <a:ext cx="2886120" cy="5181480"/>
          </a:xfrm>
          <a:prstGeom prst="rect">
            <a:avLst/>
          </a:prstGeom>
          <a:ln w="0">
            <a:noFill/>
          </a:ln>
        </p:spPr>
      </p:pic>
      <p:sp>
        <p:nvSpPr>
          <p:cNvPr id="266" name="Управляющая кнопка: возврат 7"/>
          <p:cNvSpPr/>
          <p:nvPr/>
        </p:nvSpPr>
        <p:spPr>
          <a:xfrm>
            <a:off x="815328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7493"/>
                </a:moveTo>
                <a:lnTo>
                  <a:pt x="10382" y="7493"/>
                </a:lnTo>
                <a:lnTo>
                  <a:pt x="10382" y="12828"/>
                </a:lnTo>
                <a:cubicBezTo>
                  <a:pt x="10382" y="13751"/>
                  <a:pt x="11182" y="14482"/>
                  <a:pt x="12218" y="14482"/>
                </a:cubicBezTo>
                <a:lnTo>
                  <a:pt x="13881" y="14482"/>
                </a:lnTo>
                <a:cubicBezTo>
                  <a:pt x="14916" y="14482"/>
                  <a:pt x="15717" y="13751"/>
                  <a:pt x="15717" y="12828"/>
                </a:cubicBezTo>
                <a:lnTo>
                  <a:pt x="15717" y="7493"/>
                </a:lnTo>
                <a:lnTo>
                  <a:pt x="13881" y="7493"/>
                </a:lnTo>
                <a:lnTo>
                  <a:pt x="17388" y="3985"/>
                </a:lnTo>
                <a:lnTo>
                  <a:pt x="21061" y="7493"/>
                </a:lnTo>
                <a:lnTo>
                  <a:pt x="19225" y="7493"/>
                </a:lnTo>
                <a:lnTo>
                  <a:pt x="19225" y="12828"/>
                </a:lnTo>
                <a:cubicBezTo>
                  <a:pt x="19225" y="15596"/>
                  <a:pt x="16648" y="18155"/>
                  <a:pt x="13881" y="18155"/>
                </a:cubicBezTo>
                <a:lnTo>
                  <a:pt x="12218" y="18155"/>
                </a:lnTo>
                <a:cubicBezTo>
                  <a:pt x="9450" y="18155"/>
                  <a:pt x="6874" y="15596"/>
                  <a:pt x="6874" y="12828"/>
                </a:cubicBez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Century Schoolbook"/>
              </a:rPr>
              <a:t>Бог ежегодно умирающей и возрождающейся природы, позднее - Бог Загробного Мира и Судья умерших; изображался в виде человеческой мумии в короне, обрамленной перьями, бородой, в согнутых руках -  скипетр и плеть.</a:t>
            </a:r>
            <a:r>
              <a:rPr b="0" lang="ru-RU" sz="1800" spc="-1" strike="noStrike">
                <a:solidFill>
                  <a:srgbClr val="faf1d4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entury Schoolbook"/>
              </a:rPr>
              <a:t>По преданию, он научил людей земледелию и ремеслам, т.е. дал им возможность перейти от варварства к цивилизации. С Осирисом связан один из самых значимых для Египетской Культуры мифологических циклов, рассказывающий о его коварном убийстве, совершенном Сетом, и последующем воскресении бога Исидой и Гором. Передав Гору власть над Египтом, Осирис становится затем Царем Подземного Царства Мёртвых. Осирис почитался по всему Египту и далеко за его пределами.</a:t>
            </a:r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</p:txBody>
      </p:sp>
      <p:pic>
        <p:nvPicPr>
          <p:cNvPr id="268" name="Заголовок 2" descr=""/>
          <p:cNvPicPr/>
          <p:nvPr/>
        </p:nvPicPr>
        <p:blipFill>
          <a:blip r:embed="rId2"/>
          <a:stretch/>
        </p:blipFill>
        <p:spPr>
          <a:xfrm>
            <a:off x="603360" y="500040"/>
            <a:ext cx="8321400" cy="2023920"/>
          </a:xfrm>
          <a:prstGeom prst="rect">
            <a:avLst/>
          </a:prstGeom>
          <a:ln w="0">
            <a:noFill/>
          </a:ln>
        </p:spPr>
      </p:pic>
      <p:sp>
        <p:nvSpPr>
          <p:cNvPr id="269" name="Управляющая кнопка: возврат 3"/>
          <p:cNvSpPr/>
          <p:nvPr/>
        </p:nvSpPr>
        <p:spPr>
          <a:xfrm>
            <a:off x="777240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7493"/>
                </a:moveTo>
                <a:lnTo>
                  <a:pt x="16291" y="7493"/>
                </a:lnTo>
                <a:lnTo>
                  <a:pt x="16291" y="12828"/>
                </a:lnTo>
                <a:cubicBezTo>
                  <a:pt x="16291" y="13751"/>
                  <a:pt x="17092" y="14482"/>
                  <a:pt x="18128" y="14482"/>
                </a:cubicBezTo>
                <a:lnTo>
                  <a:pt x="19790" y="14482"/>
                </a:lnTo>
                <a:cubicBezTo>
                  <a:pt x="20826" y="14482"/>
                  <a:pt x="21627" y="13751"/>
                  <a:pt x="21627" y="12828"/>
                </a:cubicBezTo>
                <a:lnTo>
                  <a:pt x="21627" y="7493"/>
                </a:lnTo>
                <a:lnTo>
                  <a:pt x="19790" y="7493"/>
                </a:lnTo>
                <a:lnTo>
                  <a:pt x="23298" y="3985"/>
                </a:lnTo>
                <a:lnTo>
                  <a:pt x="26971" y="7493"/>
                </a:lnTo>
                <a:lnTo>
                  <a:pt x="25134" y="7493"/>
                </a:lnTo>
                <a:lnTo>
                  <a:pt x="25134" y="12828"/>
                </a:lnTo>
                <a:cubicBezTo>
                  <a:pt x="25134" y="15596"/>
                  <a:pt x="22558" y="18155"/>
                  <a:pt x="19790" y="18155"/>
                </a:cubicBezTo>
                <a:lnTo>
                  <a:pt x="18128" y="18155"/>
                </a:lnTo>
                <a:cubicBezTo>
                  <a:pt x="15360" y="18155"/>
                  <a:pt x="12784" y="15596"/>
                  <a:pt x="12784" y="12828"/>
                </a:cubicBez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Заголовок 1" descr=""/>
          <p:cNvPicPr/>
          <p:nvPr/>
        </p:nvPicPr>
        <p:blipFill>
          <a:blip r:embed="rId2"/>
          <a:stretch/>
        </p:blipFill>
        <p:spPr>
          <a:xfrm>
            <a:off x="324000" y="23760"/>
            <a:ext cx="8502480" cy="13543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57200" y="838080"/>
            <a:ext cx="49528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entury Schoolbook"/>
              </a:rPr>
              <a:t>Бог в образе шакала или дикой собаки (или человека с головой шакала или собаки); считался покровителем умерших. </a:t>
            </a:r>
            <a:endParaRPr b="0" lang="en-US" sz="20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entury Schoolbook"/>
              </a:rPr>
              <a:t>В эпоху Древнего царства Анубис почитался как Главный Бог Царства Мёртвых, однако в период Среднего и Нового царств он уступил свое место Осирису, а сам стал богом из окружения Осириса. В царстве мертвых Анубис вводит Душу умершего в Зал Двух Истин, где происходит Суд над ней, взвешивает его сердце на весах. Анубис играет важную роль при осуществлении погребального ритуала, в процессах бальзамирования и мумифицирования.</a:t>
            </a:r>
            <a:endParaRPr b="0" lang="en-US" sz="20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df59c"/>
              </a:solidFill>
              <a:latin typeface="Century Schoolbook"/>
            </a:endParaRPr>
          </a:p>
        </p:txBody>
      </p:sp>
      <p:pic>
        <p:nvPicPr>
          <p:cNvPr id="272" name="Picture 2" descr="I:\Боги Древнего Египта\Боги\1260007678_rrsrryos.jpg"/>
          <p:cNvPicPr/>
          <p:nvPr/>
        </p:nvPicPr>
        <p:blipFill>
          <a:blip r:embed="rId3"/>
          <a:stretch/>
        </p:blipFill>
        <p:spPr>
          <a:xfrm>
            <a:off x="5562720" y="914400"/>
            <a:ext cx="3200400" cy="5562720"/>
          </a:xfrm>
          <a:prstGeom prst="rect">
            <a:avLst/>
          </a:prstGeom>
          <a:ln w="0">
            <a:noFill/>
          </a:ln>
        </p:spPr>
      </p:pic>
      <p:sp>
        <p:nvSpPr>
          <p:cNvPr id="273" name="Управляющая кнопка: возврат 5"/>
          <p:cNvSpPr/>
          <p:nvPr/>
        </p:nvSpPr>
        <p:spPr>
          <a:xfrm>
            <a:off x="8153280" y="61722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37" h="21600">
                <a:moveTo>
                  <a:pt x="9962" y="7493"/>
                </a:moveTo>
                <a:lnTo>
                  <a:pt x="13469" y="7493"/>
                </a:lnTo>
                <a:lnTo>
                  <a:pt x="13469" y="12828"/>
                </a:lnTo>
                <a:cubicBezTo>
                  <a:pt x="13469" y="13751"/>
                  <a:pt x="14270" y="14482"/>
                  <a:pt x="15306" y="14482"/>
                </a:cubicBezTo>
                <a:lnTo>
                  <a:pt x="16968" y="14482"/>
                </a:lnTo>
                <a:cubicBezTo>
                  <a:pt x="18004" y="14482"/>
                  <a:pt x="18805" y="13751"/>
                  <a:pt x="18805" y="12828"/>
                </a:cubicBezTo>
                <a:lnTo>
                  <a:pt x="18805" y="7493"/>
                </a:lnTo>
                <a:lnTo>
                  <a:pt x="16968" y="7493"/>
                </a:lnTo>
                <a:lnTo>
                  <a:pt x="20476" y="3985"/>
                </a:lnTo>
                <a:lnTo>
                  <a:pt x="24149" y="7493"/>
                </a:lnTo>
                <a:lnTo>
                  <a:pt x="22312" y="7493"/>
                </a:lnTo>
                <a:lnTo>
                  <a:pt x="22312" y="12828"/>
                </a:lnTo>
                <a:cubicBezTo>
                  <a:pt x="22312" y="15596"/>
                  <a:pt x="19736" y="18155"/>
                  <a:pt x="16968" y="18155"/>
                </a:cubicBezTo>
                <a:lnTo>
                  <a:pt x="15306" y="18155"/>
                </a:lnTo>
                <a:cubicBezTo>
                  <a:pt x="12538" y="18155"/>
                  <a:pt x="9962" y="15596"/>
                  <a:pt x="9962" y="12828"/>
                </a:cubicBez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entury Schoolbook"/>
              </a:rPr>
              <a:t>Бог в образе крокодила (или человека с головой крокодила); считался покровителем и хранителем реки Нил, Богом Воды и Плодородия. </a:t>
            </a:r>
            <a:endParaRPr b="0" lang="en-US" sz="20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entury Schoolbook"/>
              </a:rPr>
              <a:t>К Себеку обращались с молитвами об излечении болезней, о помощи в трудных жизненных положениях. Считалось также, что Себек заботится об участи умершего в потустороннем мире. Иногда Себек считался спутником Ра, а иногда его противником. Его женой и женским воплощением являлась Богиня Себекет, которая изображалась в облике женщины с головой льва. Если неосторожного человека съедал крокодил, считали, что Бог оказал ему великую милость. В специальных бассейнах египтяне держали приручённых крокодилов с золотыми браслетами на лапах и серьгами в ушах.</a:t>
            </a:r>
            <a:endParaRPr b="0" lang="en-US" sz="20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df59c"/>
              </a:solidFill>
              <a:latin typeface="Century Schoolbook"/>
            </a:endParaRPr>
          </a:p>
        </p:txBody>
      </p:sp>
      <p:pic>
        <p:nvPicPr>
          <p:cNvPr id="275" name="Заголовок 2" descr=""/>
          <p:cNvPicPr/>
          <p:nvPr/>
        </p:nvPicPr>
        <p:blipFill>
          <a:blip r:embed="rId2"/>
          <a:stretch/>
        </p:blipFill>
        <p:spPr>
          <a:xfrm>
            <a:off x="530280" y="122400"/>
            <a:ext cx="8242200" cy="1865160"/>
          </a:xfrm>
          <a:prstGeom prst="rect">
            <a:avLst/>
          </a:prstGeom>
          <a:ln w="0">
            <a:noFill/>
          </a:ln>
        </p:spPr>
      </p:pic>
      <p:sp>
        <p:nvSpPr>
          <p:cNvPr id="276" name="Управляющая кнопка: возврат 3"/>
          <p:cNvSpPr/>
          <p:nvPr/>
        </p:nvSpPr>
        <p:spPr>
          <a:xfrm>
            <a:off x="7772400" y="5791320"/>
            <a:ext cx="1066680" cy="685800"/>
          </a:xfrm>
          <a:custGeom>
            <a:avLst/>
            <a:gdLst>
              <a:gd name="textAreaLeft" fmla="*/ 44280 w 1066680"/>
              <a:gd name="textAreaRight" fmla="*/ 1022400 w 1066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590" h="21600">
                <a:moveTo>
                  <a:pt x="0" y="0"/>
                </a:moveTo>
                <a:lnTo>
                  <a:pt x="33590" y="0"/>
                </a:lnTo>
                <a:lnTo>
                  <a:pt x="33590" y="21600"/>
                </a:lnTo>
                <a:lnTo>
                  <a:pt x="0" y="21600"/>
                </a:lnTo>
                <a:close/>
              </a:path>
              <a:path fill="lightenLess" w="33590" h="21600">
                <a:moveTo>
                  <a:pt x="0" y="0"/>
                </a:moveTo>
                <a:lnTo>
                  <a:pt x="33590" y="0"/>
                </a:lnTo>
                <a:lnTo>
                  <a:pt x="32190" y="1400"/>
                </a:lnTo>
                <a:lnTo>
                  <a:pt x="1400" y="1400"/>
                </a:lnTo>
                <a:close/>
              </a:path>
              <a:path fill="darken" w="33590" h="21600">
                <a:moveTo>
                  <a:pt x="33590" y="0"/>
                </a:moveTo>
                <a:lnTo>
                  <a:pt x="33590" y="21600"/>
                </a:lnTo>
                <a:lnTo>
                  <a:pt x="32190" y="20200"/>
                </a:lnTo>
                <a:lnTo>
                  <a:pt x="32190" y="1400"/>
                </a:lnTo>
                <a:close/>
              </a:path>
              <a:path fill="darkenLess" w="33590" h="21600">
                <a:moveTo>
                  <a:pt x="33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0" y="20200"/>
                </a:lnTo>
                <a:close/>
              </a:path>
              <a:path fill="lighten" w="33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0" h="21600">
                <a:moveTo>
                  <a:pt x="9788" y="7493"/>
                </a:moveTo>
                <a:lnTo>
                  <a:pt x="13296" y="7493"/>
                </a:lnTo>
                <a:lnTo>
                  <a:pt x="13296" y="12828"/>
                </a:lnTo>
                <a:cubicBezTo>
                  <a:pt x="13296" y="13751"/>
                  <a:pt x="14097" y="14482"/>
                  <a:pt x="15133" y="14482"/>
                </a:cubicBezTo>
                <a:lnTo>
                  <a:pt x="16795" y="14482"/>
                </a:lnTo>
                <a:cubicBezTo>
                  <a:pt x="17831" y="14482"/>
                  <a:pt x="18631" y="13751"/>
                  <a:pt x="18631" y="12828"/>
                </a:cubicBezTo>
                <a:lnTo>
                  <a:pt x="18631" y="7493"/>
                </a:lnTo>
                <a:lnTo>
                  <a:pt x="16795" y="7493"/>
                </a:lnTo>
                <a:lnTo>
                  <a:pt x="20303" y="3985"/>
                </a:lnTo>
                <a:lnTo>
                  <a:pt x="23976" y="7493"/>
                </a:lnTo>
                <a:lnTo>
                  <a:pt x="22139" y="7493"/>
                </a:lnTo>
                <a:lnTo>
                  <a:pt x="22139" y="12828"/>
                </a:lnTo>
                <a:cubicBezTo>
                  <a:pt x="22139" y="15596"/>
                  <a:pt x="19563" y="18155"/>
                  <a:pt x="16795" y="18155"/>
                </a:cubicBezTo>
                <a:lnTo>
                  <a:pt x="15133" y="18155"/>
                </a:lnTo>
                <a:cubicBezTo>
                  <a:pt x="12365" y="18155"/>
                  <a:pt x="9788" y="15596"/>
                  <a:pt x="9788" y="12828"/>
                </a:cubicBez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Итак, Древний Египет , несомненно, это одно из величайших государств, существовавших в мировой истории. Древние египтяне внесли огромный вклад в сокровищницу мировой культуры, совершенно не подозревая об этом – они оставили нам свои храмы и гробницы, папирусы  и, конечно же, мифы и легенды, с помощью которых мы можем узнать о таких Добрых Богах древнего Египта, как: Амон Ра, Гор, Осирис, Анубис, Себек… А ведь есть ещё и другие Добрые и Злые Боги и Богини, Демоны Древнего Египта, о которых было сложено немало прекрасных мифов и легенд…</a:t>
            </a:r>
            <a:endParaRPr b="0" lang="en-US" sz="2200" spc="-1" strike="noStrike">
              <a:solidFill>
                <a:srgbClr val="fdf59c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Но это уже совсем другая история…</a:t>
            </a:r>
            <a:endParaRPr b="0" lang="en-US" sz="2200" spc="-1" strike="noStrike">
              <a:solidFill>
                <a:srgbClr val="fdf59c"/>
              </a:solidFill>
              <a:latin typeface="Century Schoolbook"/>
            </a:endParaRPr>
          </a:p>
        </p:txBody>
      </p:sp>
      <p:pic>
        <p:nvPicPr>
          <p:cNvPr id="278" name="Заголовок 2" descr=""/>
          <p:cNvPicPr/>
          <p:nvPr/>
        </p:nvPicPr>
        <p:blipFill>
          <a:blip r:embed="rId2"/>
          <a:stretch/>
        </p:blipFill>
        <p:spPr>
          <a:xfrm>
            <a:off x="225360" y="378000"/>
            <a:ext cx="8315280" cy="1384200"/>
          </a:xfrm>
          <a:prstGeom prst="rect">
            <a:avLst/>
          </a:prstGeom>
          <a:ln w="0">
            <a:noFill/>
          </a:ln>
        </p:spPr>
      </p:pic>
      <p:sp>
        <p:nvSpPr>
          <p:cNvPr id="279" name="Управляющая кнопка: в начало 3"/>
          <p:cNvSpPr/>
          <p:nvPr/>
        </p:nvSpPr>
        <p:spPr>
          <a:xfrm>
            <a:off x="7848720" y="59436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0899" y="10800"/>
                </a:moveTo>
                <a:lnTo>
                  <a:pt x="21405" y="3794"/>
                </a:lnTo>
                <a:lnTo>
                  <a:pt x="21405" y="17806"/>
                </a:lnTo>
                <a:close/>
              </a:path>
              <a:path fill="darken" w="28796" h="21600">
                <a:moveTo>
                  <a:pt x="7392" y="3794"/>
                </a:moveTo>
                <a:lnTo>
                  <a:pt x="9054" y="3794"/>
                </a:lnTo>
                <a:lnTo>
                  <a:pt x="9054" y="17806"/>
                </a:lnTo>
                <a:lnTo>
                  <a:pt x="7392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0-04-30T10:17:07Z</dcterms:modified>
  <cp:revision>16</cp:revision>
  <dc:subject/>
  <dc:title>   Добрые Боги Древнего Египта</dc:title>
</cp:coreProperties>
</file>